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18700" cy="678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73160"/>
            <a:ext cx="9144000" cy="5784840"/>
          </a:xfrm>
          <a:prstGeom prst="rect">
            <a:avLst/>
          </a:prstGeom>
          <a:solidFill>
            <a:srgbClr val="feecc8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880" rIns="2088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7851600" y="895320"/>
            <a:ext cx="756000" cy="1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F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15280"/>
            <a:ext cx="5724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935840" y="651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82040" y="651528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27360" y="6561000"/>
            <a:ext cx="141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bias Hoffm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867280" y="6237360"/>
            <a:ext cx="2698920" cy="45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32000" y="2276640"/>
            <a:ext cx="65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SIS18-BPM-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537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600" spc="-1" strike="noStrike">
                <a:solidFill>
                  <a:srgbClr val="000000"/>
                </a:solidFill>
                <a:latin typeface="Arial"/>
              </a:rPr>
              <a:t>Hardware (ELR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59400" y="0"/>
            <a:ext cx="36846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74720" y="24210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10GB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6920" y="1125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ock Sp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7600" y="551664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grammierbares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3280" y="2682720"/>
            <a:ext cx="649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805360"/>
            <a:ext cx="72072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33000"/>
            <a:ext cx="863640" cy="93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5040" y="39337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4195800"/>
            <a:ext cx="649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600" spc="-1" strike="noStrike">
                <a:solidFill>
                  <a:srgbClr val="000000"/>
                </a:solidFill>
                <a:latin typeface="Arial"/>
              </a:rPr>
              <a:t>Hardware (ELR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oncentrator and </a:t>
            </a: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ontrol </a:t>
            </a: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om</a:t>
            </a:r>
            <a:r>
              <a:rPr b="1" lang="de-DE" sz="29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uter CCC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32360" y="1108080"/>
            <a:ext cx="4186080" cy="3139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160" y="3174840"/>
            <a:ext cx="4749840" cy="3305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76720" y="4508640"/>
            <a:ext cx="388800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2x QuadCore CPUs, 2GH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32GB RA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146GB RAID 0, 10.000 U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Verdana"/>
              </a:rPr>
              <a:t>160GB RAID 1, Sy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0280" y="1141200"/>
            <a:ext cx="8147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0">
              <a:spcBef>
                <a:spcPts val="72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Testsystem für das FAIR Kontroll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1865160"/>
            <a:ext cx="75675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0040" y="1111320"/>
            <a:ext cx="68407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3940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1557360"/>
            <a:ext cx="44640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 FESA Klasse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P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PM Master (Konzentrato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UX Libera (Trafo, HF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6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80360" y="549360"/>
            <a:ext cx="1547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ign-T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20000" y="2708280"/>
            <a:ext cx="1547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st - T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Bild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Bild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Ausblic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Kurzfris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ktende Apri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fahrungen im Betrieb samm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und Dok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stallation High Precision Clock (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Mittelfrist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grade auf 50 Ohm Vorverstä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ertigstellung Test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iming Konzept überarbeiten (RT 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64 Bit Version FESA und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92360" y="1628640"/>
            <a:ext cx="590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Verdana"/>
              </a:rPr>
              <a:t>Einführ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Verdana"/>
              </a:rPr>
              <a:t>Status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Verdana"/>
              </a:rPr>
              <a:t>Status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750"/>
              </a:spcBef>
              <a:buClr>
                <a:srgbClr val="333399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Verdana"/>
              </a:rPr>
              <a:t>Ausbl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627360" cy="957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32000" y="364500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st super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877000"/>
            <a:ext cx="8893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pecial thanks to Gasper Jansa from Cosylab and Karsten Koch (EE)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Wer macht 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olfgang Kauf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iotr Kow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evin 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do Ra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arcel Freim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ter For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arcus Schwick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Kollegen der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Gasper Jansa (Cosy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urbolader für das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rojektverlau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mit EU-FP6 Pro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 Kollaboration CERN, A. Galatis, ca.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ktbetreuung Toby ab 9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ftrag Cosylab Sommer 2008 (zusammen mit 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ktende geplant 31.3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Verdana"/>
              </a:rPr>
              <a:t>Aufgaben Cosyl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fassen der Spezif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aufbau der CERN KS-Struktur bei 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 (DAQ, Netzwerk, Gerätesteuerung und G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kumentation, Tutorials, Test und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Was ist das BPM Proj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naufnahmekonzept und Realisierung für d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Beam Position Monitore im 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ssen und Anzeigen v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d Orbit, Bunch2Bunch, RawData, TurnByTurn, Tune und evtl. Feedback, Kalibration und Statusmeld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ares Konzept auch für SIS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st und Demonstration für FAIR Kontrollsystem mit FESA, Middleware und GUI (CERN Konzep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Verdana"/>
              </a:rPr>
              <a:t>Einführun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4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Anforder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lauffrequenz 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IS: 850 kHz – 5 MHz (SIS100 = 6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nchfrequenz : 8x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max. 50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flösung: 0.1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dbreite Pick-Up: 100MHz (bis 200MHz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gitalisierung: 125MS/s, 14Bit, 12 x Libera Had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BunchToBu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atenpaket: 96 Bit/Bunch x 6MHz x 12 Liberas = 864MB/s (max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Verdana"/>
              </a:rPr>
              <a:t>Rohda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4 Platten x 125MS/s x 14Bit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875 MB/s für eine L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201600"/>
            <a:ext cx="745200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12600"/>
            <a:ext cx="8208720" cy="6861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23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Verdan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4600" spc="-1" strike="noStrike">
                <a:solidFill>
                  <a:srgbClr val="000000"/>
                </a:solidFill>
                <a:latin typeface="Arial"/>
              </a:rPr>
              <a:t>Hardware (SI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900" spc="-1" strike="noStrike">
                <a:solidFill>
                  <a:srgbClr val="333399"/>
                </a:solidFill>
                <a:latin typeface="Verdana"/>
              </a:rPr>
              <a:t>Beam Position Monitor</a:t>
            </a: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Kapazitiv, wie Kondens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7:24:06Z</dcterms:created>
  <dc:creator>THoffman</dc:creator>
  <dc:description/>
  <dc:language>en-US</dc:language>
  <cp:lastModifiedBy>THoffman</cp:lastModifiedBy>
  <dcterms:modified xsi:type="dcterms:W3CDTF">2009-02-19T07:49:36Z</dcterms:modified>
  <cp:revision>45</cp:revision>
  <dc:subject/>
  <dc:title>Slide 1</dc:title>
</cp:coreProperties>
</file>